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8555C5-0C7D-4809-996F-7E2D975F44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91B4E5-606D-4EFC-831B-111F5EFCE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7BAF4A-498C-4D0B-B647-261B53EBB3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CE828B-72AF-4904-BA97-5E5D270077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4EE63-739B-47BF-9EEB-FF4AB56421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B0EE0-A3CA-457F-AA25-3F50FD304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09973-56B9-4135-9D58-25CF235C6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E2E16-E463-4C42-B176-C83400101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C0D08-102F-441D-9D25-19625AE64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B3996-E7E0-4042-9924-664BE81DF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CC684-95F8-4ED6-A05B-9886B15AB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F2AFAD-BB6D-4F51-9B06-9A7502C29F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C59FA-1B32-461D-A167-1EEE4B733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31BC9-DE9F-4722-B618-2E3CE2AB0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BBC14-4C46-44F3-B2A2-791A62D03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837E4-9582-47FB-82F7-537B0197A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809F56-688F-4478-92B4-5AE70AA60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489826-7617-4FC2-8FA1-768943DD3F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7EEBF1-C945-4650-AEFB-032F10065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93D1D6-371C-450B-A04E-880C9183C8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6769A1-C606-41F8-B6E0-E64692DDF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1F1609-3B52-4311-9A86-F7EB28358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AAA6B0-0DCD-44E8-9163-03B4D8CF42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A52AEF-29F5-4761-BE4B-074BE19DCB9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27C0-34FC-46C2-9C3A-20A48E6A2F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7ACD-AEDD-4952-8D83-D2164C9738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2080"/>
            <a:ext cx="6019920" cy="1719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QA and Requirements</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360" rIns="90360" tIns="44280" bIns="44280" anchor="t">
            <a:no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8</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CB42F77-2763-4234-989C-379944ADC7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 Defects - 1</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four categories of defects are found in requirements</a:t>
            </a:r>
            <a:endParaRPr b="0" lang="en-US" sz="28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of commission</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of omission</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of clarity and ambiguity</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of speed and capacity</a:t>
            </a:r>
            <a:endParaRPr b="0" lang="en-US" sz="24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prevented or removed, requirements defects usually flow downstream into design, code, and user manual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278FD75-A343-46F3-B095-8B361E4495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 Defects - 2</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ly, requirements defects are most expensive and troublesome to elimina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effort should be made to eliminate requirements def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quirements errors, prevention usually works better than remov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8ABFC4-8C51-4C54-88E2-09E7232E72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 Defects - 3</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of omission are most common among requirements def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ous example is the Y2K proble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2BFCA3-73CB-4E55-8F09-86DFFEB1CB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 Defects - 4</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most common errors are those of clarity and ambigu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ily, because natural languages (like English) are used to state requirements, while such languages are themselves ambiguou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objec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E31E10-1E14-4D8E-A10B-8D7B8464EC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 Defects - 5</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of commission can also find their way into the requirements docu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errors can also be found in requirements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4CECDF-A217-4C3C-9676-9A6BECDFE2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ention Vs Removal</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quirements errors, prevention is usually more effective than removal</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t application development (JAD), Quality Function Deployment (QFD), and prototyping are more effective in defect preven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inspections and prototyping play an important role defect remova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CD207F-5225-4BB2-8518-EFF54871A5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Creeping Requirements - 1</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will change, no matter wha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jor issue in requirements engineering is the rate at which requirements change once the requirements phase has “officially” end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ate is on average 3% per month in the subsequent design phase, and will go down after th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8DA59E-E506-4B42-B45D-E7BD575D45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Creeping Requirements - 2</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ate should come down to 1% per month during cod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this should come down to no changes in test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9E7965-93CD-4CE0-918D-26C9A1A7F4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s and Creeping Requirements</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have shown that very significant percentage of delivered defects can be traced back to creeping user require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alization can only be made, if defect tracking, requirements traceability, defect removal efficiency, and defect rates are all monitored for software project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752986-9C93-4A86-B8F5-0C2EEFE958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mage Control of Creeping Requirements</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ing quality assurance mechanisms can limit the damage done by creeping requirem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change management procedur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of-the-art configuration control tool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design and code inspec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F1432D-038C-4FD6-96E3-05E274D872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p</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ed requirements and requirements engineering proces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484BA5-D41A-404D-9971-014DCE59C4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with Natural Languages - 1</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clar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confu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amalgam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38EB9A-FE2E-449E-A370-79EFF62CA4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with Natural Languages - 2</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language understanding relies on the specification readers and writers using the same words for same concep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tural language requirements specification is over-flexible. You can say the same thing in completely different way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F1173C-CF60-4A61-A462-1AB3A9A92F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with Natural Languages - 3</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ot possible to modularize natural language requirements.  It may be difficult to find all related requirem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iscover the impact of a change, every requirement have to be examine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CC62F3-8EE1-475E-A841-5508E9779B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Guidelines for Writing Requirements</a:t>
            </a:r>
            <a:endParaRPr b="0" lang="en-US" sz="5000" spc="-1" strike="noStrike">
              <a:solidFill>
                <a:srgbClr val="ffffff"/>
              </a:solidFill>
              <a:latin typeface="Arial"/>
            </a:endParaRPr>
          </a:p>
        </p:txBody>
      </p:sp>
      <p:sp>
        <p:nvSpPr>
          <p:cNvPr id="15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14E58EB-3942-4A8E-A41C-B6EF9143E2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Requirements - 1</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specification should establish an understanding between customers and suppliers about what a system is supposed to do, and provide a basis for validation and verific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045DF7-13C7-4D84-803A-A5AD713DAC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Requirements - 2</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requirements documents are written in natural languages (like, English, Japanese, French, etc.)</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languages are ambiguous</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d languages can be used with the natural languages to specify requirements</a:t>
            </a:r>
            <a:endParaRPr b="0" lang="en-US" sz="28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languages cannot completely define requirements</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not understandable by all stakeholders</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E4A3C2-305C-462F-BF9E-0D8966E4C6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s for Writing Requirements - 1</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are read more often than they are written. Investing effort in writing requirements, which are easy to read and understand is almost always cost-effective</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rs of requirements come from diverse backgrounds. Requirements writers should not assume that readers have the same background and knowledge as the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B7F105-9F9E-459F-AED3-AD165E056A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s for Writing Requirements - 2</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clearly and concisely is not easy.  If you don’t allow sufficient time for requirements descriptions to be drafted, reviewed and improved, you will inevitably end up with poorly written require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460A65-74A2-425F-A2FA-A7142A646E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s for Writing Requirements - 3</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organizations write requirements at different levels of abstraction from deliberately vague product specifications to detailed and precise descriptions of all aspects of a syste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E36B50-444C-499D-9FAA-ED0AF4BED2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s for Writing Requirements - 4</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 of detail needed is dependent 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requirements (stakeholder or process requiremen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expec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procedur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standards or regul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AA3EBCF-CB9E-48E2-BAC5-5D49636E2E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Lecture</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in requirements and requirements def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guidelines for writing requirements to improve the quality of the requirements docu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A8306C-D3B6-464D-AB51-572DBDF782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s for Writing Requirements - 5</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good requirements requires a lot of analytic though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ing rationale of requirement is one way to encourage such though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9FC84F-94AA-4669-87B5-06FC57005A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Writing Requirements - 1</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standard templates for describing require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language simply, consistently, and concisel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iagrams appropriatel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5BD37A-0127-46EF-AA42-03BCF65B89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Standard Templates</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 set of standard format for different types of requirements and ensure that all requirement definitions adhere to that form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ation means that omissions are less likely and makes requirements easier to read and chec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FDEE28-1209-448E-BD21-D5F36DBDE9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Simple Language - 1</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language consistently.  In particular, distinguish between mandatory and desirable requirements. It is usual practice to define mandatory requirements using ‘</a:t>
            </a:r>
            <a:r>
              <a:rPr b="0" i="1" lang="en-US" sz="3200" spc="-1" strike="noStrike">
                <a:solidFill>
                  <a:srgbClr val="000000"/>
                </a:solidFill>
                <a:latin typeface="Arial"/>
              </a:rPr>
              <a:t>shall</a:t>
            </a:r>
            <a:r>
              <a:rPr b="0" lang="en-US" sz="3200" spc="-1" strike="noStrike">
                <a:solidFill>
                  <a:srgbClr val="000000"/>
                </a:solidFill>
                <a:latin typeface="Arial"/>
              </a:rPr>
              <a:t>’ and desirable requirements using ‘</a:t>
            </a:r>
            <a:r>
              <a:rPr b="0" i="1" lang="en-US" sz="3200" spc="-1" strike="noStrike">
                <a:solidFill>
                  <a:srgbClr val="000000"/>
                </a:solidFill>
                <a:latin typeface="Arial"/>
              </a:rPr>
              <a:t>should</a:t>
            </a:r>
            <a:r>
              <a:rPr b="0" lang="en-US" sz="3200" spc="-1" strike="noStrike">
                <a:solidFill>
                  <a:srgbClr val="000000"/>
                </a:solidFill>
                <a:latin typeface="Arial"/>
              </a:rPr>
              <a:t>’. Use ‘</a:t>
            </a:r>
            <a:r>
              <a:rPr b="0" i="1" lang="en-US" sz="3200" spc="-1" strike="noStrike">
                <a:solidFill>
                  <a:srgbClr val="000000"/>
                </a:solidFill>
                <a:latin typeface="Arial"/>
              </a:rPr>
              <a:t>will</a:t>
            </a:r>
            <a:r>
              <a:rPr b="0" lang="en-US" sz="3200" spc="-1" strike="noStrike">
                <a:solidFill>
                  <a:srgbClr val="000000"/>
                </a:solidFill>
                <a:latin typeface="Arial"/>
              </a:rPr>
              <a:t>’ to state facts or declare purpos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CFEB8B-CA8C-41D4-B106-64B0105EED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Simple Language - 2</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hort sentences and paragraphs, using lists and ta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ext highlighting to pick out key parts of the require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8533CA-38C8-4F6A-B8A6-2C29AB3A56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ppropriate Diagram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iagrams to present broad overviews and show relationships between entiti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complex diagram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D150C5-181E-4151-9368-8A14B88825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Writing Requirements - 2</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ement natural language with other descriptions of require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requirements quantitativel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9A3D4F-09BE-433B-9174-C488FA01E5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Other Descriptions of Requirements</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aders are familiar with other types of descriptions of requirements (like equations, etc.) then use thos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ularly applicable to scientific and engineering domain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try to write everything in natural languag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2B6B13-EB20-442B-890E-58EC71A993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y Requirements Quantitatively</a:t>
            </a: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requirements quantitatively wherever possibl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pplicable to properties of system, such as reliability or performanc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llect our discussion on metrics for non-functional require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F8BB72-BB77-42EB-9D6F-997E11D6EE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Guidelines for Writing Requirements - 1</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only requirement per requirement statemen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requirements as active sentenc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use a noun or a definite pronoun when referring to a th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use more than one conjunction when writing requirements state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5E05FB-61CA-44D6-928C-CDE6727B29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Requirements Problems and Requirements Defects</a:t>
            </a:r>
            <a:endParaRPr b="0" lang="en-US" sz="4600" spc="-1" strike="noStrike">
              <a:solidFill>
                <a:srgbClr val="ffffff"/>
              </a:solidFill>
              <a:latin typeface="Arial"/>
            </a:endParaRPr>
          </a:p>
        </p:txBody>
      </p:sp>
      <p:sp>
        <p:nvSpPr>
          <p:cNvPr id="113"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5C36ADA-204C-4259-9ADA-46B5EC9852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Guidelines for Writing Requirements - 2</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using weak words and phrases. Such words and phrases re generally imprecise and allow the expansion or contraction of requirements beyond their int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364263-3A74-4FD1-A88C-DAB504C08D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s of Words to be Avoided</a:t>
            </a:r>
            <a:endParaRPr b="0" lang="en-US" sz="40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adequate, and/or, appropriate, as applicable, as appropriate, desirable, efficient, etc., if practical, suitable, timely, typical, when necessa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0F09C0-9E80-42CD-8EC6-BAD2230EEB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Guidelines for Writing Requirements - 3</a:t>
            </a:r>
            <a:endParaRPr b="0" lang="en-US" sz="44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e needed requirements without specifying how to fulfill the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complete state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statements that clearly convey int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00E5C0-C5A3-4FF5-9CC5-C9FEF1D7E5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quirements Engineering: Processes and Techniques’ by G. Kotonya and I. Sommerville, John Wiley &amp; Sons, 1998</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ea typeface="Times New Roman"/>
              </a:rPr>
              <a:t>Software Requirements: Objects, Functions, and States’ by A. Davis, PH, 1993</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oftware Engineering Quality Practices’ by R. K. Kandt, Auerbach Publications, 2006</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6193E2-052B-4DB6-A7DD-AF3820538469}"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 Problems - 1</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quirements don’t reflect the real needs of the customer for the syste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are inconsistent and/or incomple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xpensive to make changes to requirements after they have been agreed up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24C560-DE97-463D-ADB7-918B3289F1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 Problems - 2</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isunderstandings between customers, those developing the system requirements, and software engineers developing or maintaining the syste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quirements are written using complex conditional clauses (if A then B then C…), which are confus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FD4D91-C72D-484E-811B-F9CCDBBFF6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 Problems - 3</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ology is used in a sloppy and inconsistent wa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riters of the requirement assume that the reader has a specific knowledge of the domain or the system and they leave essential information out of the requirements docu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E48275-5FBD-4F30-96E4-A70589EB1E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act of Wrong Requirements - 1</a:t>
            </a:r>
            <a:endParaRPr b="0" lang="en-US" sz="40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o check the requirements for errors and omi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interpretations of the requirements may lead to contractual disagreements between customer and the system develop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081EB1-37A3-400E-B751-DD853D770C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act of Wrong Requirements - 2</a:t>
            </a:r>
            <a:endParaRPr b="0" lang="en-US" sz="40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requirements are wrong, systems are late, unreliable and don’t meet customers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sults in enormous loss of time, revenue, market share, and trust of customer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ormance to wrong requirements will result in a wrong syste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798071-336A-4B02-B692-F44CB6BB32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7T07:29:05Z</dcterms:created>
  <dc:creator>Ghulam Ahmad Farrukh</dc:creator>
  <dc:description/>
  <dc:language>en-US</dc:language>
  <cp:lastModifiedBy>ahmadmohsin</cp:lastModifiedBy>
  <dcterms:modified xsi:type="dcterms:W3CDTF">2009-04-17T09:39:17Z</dcterms:modified>
  <cp:revision>100</cp:revision>
  <dc:subject/>
  <dc:title>Quality Assurance and Requirements</dc:title>
</cp:coreProperties>
</file>